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2988-23BD-405F-BCE9-64B6307DFD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udents can work in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F9C5-F168-47ED-BD9C-EEBBE8D0EF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will take 1.5 to 2 hours: speaking warmer (15 mins); vocabulary (15 mins); reading (15 mins); speaking (15 mins); grammar review (15 - 30 mins); writing (15 - 30 mi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6310-3C80-46D8-B5FB-B56BCC14EA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discuss in pairs or groups and/or make lists, look up information from the Internet, present ideas to the class. The teacher can monitor and note down errors (especially with present continuous tense) for post-task cor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0F01-348B-4596-9726-4A09FA9F73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words and definitions could be printed out and cut up for learners to mat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5DEF-10CC-48D0-876B-9DB73DE31F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now ask each other to explain the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BAC4-D53B-41C7-8C2C-C215280B3C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is the original version of the text – if learners will get discouraged reading it, only allow a short time for them to look at the visuals at this stage – they will be able to understand it better after reading the easier english ver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3754-0962-44D3-BB05-6967F541A5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ould print out and cut up the text and give one country project to each learner in the class, then get learners to mill and exchange inform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357B-4104-4DCC-9896-AECC1F9C67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st of the examples are function b) – there are some future plans with function 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1AF2-03B0-4847-B58C-95FE0D52AE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ck learners understand the form, meaning and phonology of the present continu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5D69-F2B7-4904-81E8-EE3DE6555A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FEA7-A27D-4DCD-BA34-670131D44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CBD3-8A64-4E82-99DC-73A4978E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5A93-C631-42B7-B965-56EAB0E1F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63C0-E57E-403A-888F-68D8F7E46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86BC-ED6B-4B74-8029-0A22C226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B25B-278D-4F8D-AD0F-56E40853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E5AC-820D-41C2-AFB7-2C866970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84A3-83F7-46AB-BD05-77DB389C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0A68-42BF-4D2B-8D63-D96CC024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C4D2-2336-4EA3-9C81-9037B36B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0C21-F602-4084-A365-11BCBD87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A461-FD59-4F3F-ADE3-52E44048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89C6-426F-47BF-8C46-66DF69F5B2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alibri"/>
              </a:rPr>
              <a:t>Protecting the planet from climate-chang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640" y="4365360"/>
            <a:ext cx="8064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8989"/>
                </a:solidFill>
                <a:latin typeface="Calibri"/>
              </a:rPr>
              <a:t>New Internationalist Easier English Ready Intermediate less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new internationalist logo black on white.jpg"/>
          <p:cNvPicPr/>
          <p:nvPr/>
        </p:nvPicPr>
        <p:blipFill>
          <a:blip r:embed="rId1"/>
          <a:stretch/>
        </p:blipFill>
        <p:spPr>
          <a:xfrm>
            <a:off x="3427560" y="476280"/>
            <a:ext cx="57308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Make a poster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ell/show others what is happening around the world to protect the planet - maybe include pictures to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nal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ook back at the original article and read it – it will seem much easier now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www.newint.org/features/2012/04/01/climate-change-adaptation-projects-map-world-countrie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Program Files\Microsoft Office\MEDIA\CAGCAT10\j0335112.wmf"/>
          <p:cNvPicPr/>
          <p:nvPr/>
        </p:nvPicPr>
        <p:blipFill>
          <a:blip r:embed="rId1"/>
          <a:stretch/>
        </p:blipFill>
        <p:spPr>
          <a:xfrm>
            <a:off x="5219640" y="4797360"/>
            <a:ext cx="165600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560" y="1599840"/>
            <a:ext cx="8785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70c0"/>
                </a:solidFill>
                <a:latin typeface="Calibri"/>
              </a:rPr>
              <a:t>Speak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discuss climate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50"/>
                </a:solidFill>
                <a:latin typeface="Calibri"/>
              </a:rPr>
              <a:t>Vocabulary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to prepare for 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00000"/>
                </a:solidFill>
                <a:latin typeface="Calibri"/>
              </a:rPr>
              <a:t>Read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about different count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70c0"/>
                </a:solidFill>
                <a:latin typeface="Calibri"/>
              </a:rPr>
              <a:t>Speak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about what is happ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Grammar review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present continuo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rit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po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b050"/>
                </a:solidFill>
                <a:latin typeface="Calibri"/>
              </a:rPr>
              <a:t>What is climate change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c00000"/>
                </a:solidFill>
                <a:latin typeface="Calibri"/>
              </a:rPr>
              <a:t>What can we do about it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254061"/>
                </a:solidFill>
                <a:latin typeface="Calibri"/>
              </a:rPr>
              <a:t>What can governments around the world do about it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tc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9280" y="691920"/>
            <a:ext cx="266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) glacier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2) to reflect ba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3) power gen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4) to cool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5) flood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6) earthquak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7) hurrican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8) microfinanc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9) dyk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0) dam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1) amphibia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2) drough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3) famin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4) biodiversity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5) coral reef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340000" y="620640"/>
            <a:ext cx="662472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a) no food – people die because they can’t get foo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b)  to make something colde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c) all the different types of animals, plants and living things on earth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) when the earth moves for seconds or minutes and shakes building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e) it makes electricit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f) a big wall to keep water out (eg. to protect the land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g) a very big river of i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h) a big wall to keep water in (eg. in a lake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i) no water – people and animals can di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j) an animal that can live in water and on land eg. a fro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k) beautiful coloured rock in the sea near Australi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l) to make something return where it came from (eg. in a mirror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m) too much water everywhere from rain and rivers overflow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n) a banking system where people borrow a small amount of mone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o) a very strong wind that can destroy building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24000" y="188640"/>
            <a:ext cx="43192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7030a0"/>
                </a:solidFill>
                <a:latin typeface="Calibri"/>
              </a:rPr>
              <a:t>KEY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glacier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g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2) to reflect back 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l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3) power generator 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4) to cool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b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5) flood   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m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6) earthquake 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d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7) hurricane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o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8) microfinance   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3280" y="188640"/>
            <a:ext cx="45007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9) dyke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f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0) dam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h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1) amphibian  -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j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2) drought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3) famine  -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4) biodiversity -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5) coral reef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-</a:t>
            </a: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coral ree.jpg"/>
          <p:cNvPicPr/>
          <p:nvPr/>
        </p:nvPicPr>
        <p:blipFill>
          <a:blip r:embed="rId1"/>
          <a:stretch/>
        </p:blipFill>
        <p:spPr>
          <a:xfrm>
            <a:off x="6012000" y="5300640"/>
            <a:ext cx="20588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ook at the world and think about what’s happen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www.newint.org/features/2012/04/01/climate-change-adaptation-projects-map-world-countrie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ing &amp; Speak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Read and think : what’s happening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ttp://eewiki.newint.org/index.php/Protecting_the_planet_against_climate_chan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Practise: tell your partne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Speak: tell everyone els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Grammar review : present continuo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4000" y="980640"/>
            <a:ext cx="8640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re are 3 main functions/meanings of this ten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mething happening N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      </a:t>
            </a: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Look! It’s rain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) something happening in the time around n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      </a:t>
            </a: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I’m studying English this ye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) a future arran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    </a:t>
            </a: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I’m playing football next Monday at 5p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Look at the text and find and underline all the example of the present continuous. Which function are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rammar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 pairs, write at least one present continuous sentence about what is happening in each country in the tex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g. In Canada, </a:t>
            </a: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they are warning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ople about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the US, </a:t>
            </a: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people are painting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ir roofs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13:41:19Z</dcterms:created>
  <dc:creator>IT Technical Support</dc:creator>
  <dc:description/>
  <dc:language>en-US</dc:language>
  <cp:lastModifiedBy>Mix</cp:lastModifiedBy>
  <dcterms:modified xsi:type="dcterms:W3CDTF">2012-10-28T17:10:01Z</dcterms:modified>
  <cp:revision>27</cp:revision>
  <dc:subject/>
  <dc:title>Protecting the planet from climate-change</dc:title>
</cp:coreProperties>
</file>